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468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7696-1779-4E93-AF47-7198CB9C9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295280" y="406296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0563-1F3B-45B1-8C20-6A8828AAC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19012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7321-36A2-427D-942E-FBF0FD180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532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3536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29528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86532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43536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403E-ABCA-4999-9A63-81055DF42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DEFA3-6468-488D-899A-98944F7ED0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6C765-E257-4276-85B6-3C83EAE9CD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BF6F3-3645-4C46-95E7-ADE23F1FF1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82D21-57C0-4AE8-AAA3-C58020F402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2DB96-A167-43B8-BD1D-ED2371281C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63695-13D6-49A6-AAEF-7B80FB69F5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92F79-5B00-45A6-AA6E-F16939233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81FB-9CCE-4D0F-B035-8B93A19E5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9012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56FEA-7851-47ED-9E4C-43F800CF9E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DDF94-C4C7-4E39-AA3F-C48685D915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95280" y="406296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A5C9A-814C-4E58-8ED6-01DF0EFC67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9012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12567-8329-493C-A09F-690F7BF48D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6532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435360" y="15998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9528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86532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435360" y="406296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A45D0-BA27-478D-82F3-6C5B7CB25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9D30-AA19-474F-9842-DA0293C3C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00CE-E0AA-41F7-BC6E-33E0AF868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FDB1-B3B8-4C31-8748-700D74A30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39A9-BDD5-49DB-A005-E58FD6CF7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07D6-BDE3-49C9-84AD-CCACD882B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90120" y="406296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96F7-4428-47C9-97B5-675D325B3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0120" y="15998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95280" y="406296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8C18-F8D9-4433-AB62-8DA14FE74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4708"/>
              </a:buClr>
              <a:buSzPct val="8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47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47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47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7a2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7a2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77840" y="6319800"/>
            <a:ext cx="201924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a220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220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029200" y="631980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a220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BAB0-1AD1-4E40-8217-B97B559732DD}" type="slidenum">
              <a:rPr b="0" lang="en-US" sz="1400" spc="-1" strike="noStrike">
                <a:solidFill>
                  <a:srgbClr val="7a220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c3e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c3e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a220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3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a220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220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4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a220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D796-3ABA-4EAB-B6B3-962D3CAF727F}" type="slidenum">
              <a:rPr b="0" lang="en-US" sz="1400" spc="-1" strike="noStrike">
                <a:solidFill>
                  <a:srgbClr val="7a220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c1c03"/>
                </a:gs>
                <a:gs pos="100000">
                  <a:srgbClr val="ec3e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1c03"/>
                </a:gs>
                <a:gs pos="50000">
                  <a:srgbClr val="ec3e08"/>
                </a:gs>
                <a:gs pos="100000">
                  <a:srgbClr val="6c1c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c3e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c3e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a220a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c3e08"/>
                      </a:gs>
                      <a:gs pos="100000">
                        <a:srgbClr val="6c1c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a220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c1c03"/>
                      </a:gs>
                      <a:gs pos="100000">
                        <a:srgbClr val="ec3e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a220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c3e08"/>
                      </a:gs>
                      <a:gs pos="100000">
                        <a:srgbClr val="6c1c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a220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c1c03"/>
                      </a:gs>
                      <a:gs pos="100000">
                        <a:srgbClr val="ec3e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a220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c3e08"/>
                    </a:gs>
                    <a:gs pos="100000">
                      <a:srgbClr val="6c1c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c3e08"/>
                    </a:gs>
                    <a:gs pos="100000">
                      <a:srgbClr val="6c1c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c1c03"/>
                    </a:gs>
                    <a:gs pos="50000">
                      <a:srgbClr val="ec3e08"/>
                    </a:gs>
                    <a:gs pos="100000">
                      <a:srgbClr val="6c1c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1c03"/>
                    </a:gs>
                    <a:gs pos="100000">
                      <a:srgbClr val="ec3e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7a220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447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447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220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7a22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4708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220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7a22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7a2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220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7a22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7a2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220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678024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220a"/>
                </a:solidFill>
                <a:latin typeface="Times New Roman"/>
              </a:rPr>
              <a:t>School, Family, and Community Partnership Action Team Model</a:t>
            </a:r>
            <a:br>
              <a:rPr sz="3600"/>
            </a:br>
            <a:r>
              <a:rPr b="1" lang="en-US" sz="2400" spc="-1" strike="noStrike">
                <a:solidFill>
                  <a:srgbClr val="7a220a"/>
                </a:solidFill>
                <a:latin typeface="Times New Roman"/>
              </a:rPr>
              <a:t>Strengthening Family Support and Involvement in Schools through Action Research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23520" y="4123800"/>
            <a:ext cx="761868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Institute for Responsive Education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Linda L. Peterson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1 - Culture and Climate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is session lays the groundwork for building a team and creating a true partnership.  Time is spent looking at the current school goals and the direction the team would like the school to go.  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In building a strong family partnership, the first step is seeing if the school is “welcoming” to families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team conducts a welcoming walk-through of the school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Self-Assessment Activity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3429000" cy="3389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71760" y="1599840"/>
            <a:ext cx="3724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Spend the next five minutes completing the self-assessment survey.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How “welcoming” is your school?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2 - Short Team Goals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team reports back the results of their walk-through and discusses the changes that can be readily made in the school. 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is activity builds teamwork and puts short-term goals into immediate action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497880" y="304920"/>
            <a:ext cx="3581640" cy="603720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sample docu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 and replace with working document icons as follows: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Insert Menu, select Object...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Create from File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File name in “File” box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“Display as Icon” is checked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icon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lide Show Menu, Select “Action Settings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Object Action” and select “Edit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72320" y="648972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220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48769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220a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24224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3 - Action Research - Data Collectio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short-term projects should be completed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is session shows the team how to involve the entire school community in researching the needs of students, families, and school staff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team designs and plans take-home surveys, focus groups, and interviews for families and staff as part of the data collection needed to develop an action plan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4 - Data Day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00120" y="1294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At this stage, the team has collected all the data. 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A larger group is invited to participate to help review all the data and to establish categories of “needs improvement” and “is working well”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All of the data is also tied to the academic goals of the school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12571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5 - Sharing the Informatio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In order to be inclusive with the entire school community, the information gathered during Data Day is shared with the larger school body and explained in regards to process and outcomes.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Action ideas are discussed with the larger group and recommendations are requested.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304920"/>
            <a:ext cx="3581640" cy="603720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sample docu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 and replace with working document icons as follows: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Insert Menu, select Object...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Create from File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File name in “File” box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“Display as Icon” is checked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icon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lide Show Menu, Select “Action Settings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Object Action” and select “Edit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02120" y="6489720"/>
            <a:ext cx="23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22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6 - Creating an Action Pla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team takes the recommendations of the larger group and refines them into achievable action steps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One to three steps are recommended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 steps should be tied to a specific academic goal of the school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220a"/>
                </a:solidFill>
                <a:latin typeface="Arial"/>
              </a:rPr>
              <a:t>These steps are then discussed with the larger group and approved by the school administration.</a:t>
            </a: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Module 7 - Sustainability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At this final stage the action team takes the action steps and creates a specific plan for each step to be implemented.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4343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42960" y="304920"/>
            <a:ext cx="7601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Action Plan</a:t>
            </a:r>
            <a:br>
              <a:rPr sz="2800"/>
            </a:b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Goal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660033"/>
                </a:solidFill>
                <a:latin typeface="Times New Roman"/>
              </a:rPr>
              <a:t>Improve students’ literacy skills through parent involvement activities planned by the parent center.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rk Plan For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660033"/>
                </a:solidFill>
                <a:latin typeface="Times New Roman"/>
              </a:rPr>
              <a:t>Improved communication through the newsletter, email, web site, and room parents.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803240" y="2228760"/>
          <a:ext cx="7032960" cy="45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2228760"/>
                    <a:ext cx="703296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ctivity - Design an Action Pla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71760" y="1599840"/>
            <a:ext cx="3724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In a small group - design an action plan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Goal: </a:t>
            </a:r>
            <a:r>
              <a:rPr b="1" i="1" lang="en-US" sz="2800" spc="-1" strike="noStrike">
                <a:solidFill>
                  <a:srgbClr val="7a220a"/>
                </a:solidFill>
                <a:latin typeface="Arial"/>
              </a:rPr>
              <a:t>Determine new parents’ needs for support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Work Plan for: </a:t>
            </a:r>
            <a:r>
              <a:rPr b="1" i="1" lang="en-US" sz="2800" spc="-1" strike="noStrike">
                <a:solidFill>
                  <a:srgbClr val="7a220a"/>
                </a:solidFill>
                <a:latin typeface="Arial"/>
              </a:rPr>
              <a:t>Data collection from new parents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Report Out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3505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Workshop Objectives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6010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Workshop Objectives: To enable participants to: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4708"/>
              </a:buClr>
              <a:buSzPct val="8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assess their readiness to create a school, family, and community partnership with the assistance of the action team model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4708"/>
              </a:buClr>
              <a:buSzPct val="8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describe the benefits of action research and the action team model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4708"/>
              </a:buClr>
              <a:buSzPct val="80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introduce the action team model as a method for strengthening family support and involvement at their site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Recommended Reading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Parent-Teacher Action Research in Profile 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- IRE (Included in handouts)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Engaging Families and Communities-Pathways to Educational Success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- Larry Decker, Virginia Decker and Associate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Building Partnerships Workbook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- Northwest Regional Educational Lab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Education and Community Building - Connecting Two Worlds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- Institute for Educational Leadership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Building Support for Better Schools - Seven Steps to Engaging Hard-to-Reach Communities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- Southwest Educational Development Lab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2960" y="21427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Presentation: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What is action research?</a:t>
            </a: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Presentation: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IRE Training and Technical Assistance - Action Team Model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Activity: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Individual Assessment for partnership readiness</a:t>
            </a:r>
            <a:r>
              <a:rPr b="1" i="1" lang="en-US" sz="2800" spc="-1" strike="noStrike">
                <a:solidFill>
                  <a:srgbClr val="7a220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Presentation: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Developing an Action Plan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Small Group Activity: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Designing an Action Plan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220a"/>
                </a:solidFill>
                <a:latin typeface="Arial"/>
              </a:rPr>
              <a:t>Wrap-up - </a:t>
            </a: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Questions &amp; Answer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7696080" cy="881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What is Action Research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729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Action research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is a process that builds school improvement programs that can really make a difference in the lives of children and families. 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a220a"/>
                </a:solidFill>
                <a:latin typeface="Arial"/>
              </a:rPr>
              <a:t>Action research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helps various members of the school community - teachers, parents, administrators, and community members - reflect on which strategies are currently working, what needs to be reshaped or changed, and what needs to be discontinued altogether.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The process creates a forum for getting different perspectives on what works from people with the greatest stake in the success of the program.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The Benefits of the Process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724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The process: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Cultivates partnerships through participatory research and shared learning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upports relationship building among the participant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Empowers all members of the school community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172120" y="1727280"/>
            <a:ext cx="35211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Ten Steps to Action Research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60104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Getting a Group Together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Choosing a Facilitator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3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Picking a Researchable Topic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4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Finding Out What your Colleagues Already Know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5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Finding Out What Others Have Written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Steps for Action Research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4296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6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Gathering Data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7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Compiling and Discussing the Data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8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Writing What Happened and What You Learned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9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haring Finding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Step 10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Designing and</a:t>
            </a:r>
            <a:r>
              <a:rPr b="1" i="1" lang="en-US" sz="2400" spc="-1" strike="noStrike" u="sng">
                <a:solidFill>
                  <a:srgbClr val="7a220a"/>
                </a:solidFill>
                <a:uFillTx/>
                <a:latin typeface="Arial"/>
              </a:rPr>
              <a:t> Implementing</a:t>
            </a: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 an Action Plan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lvl="1" marL="743040"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ction Research: </a:t>
            </a:r>
            <a:br>
              <a:rPr sz="4400"/>
            </a:b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Data Collection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330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220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Journal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Anecdotal Record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Interview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Portfolio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Questionnaire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Tape Recording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Video Recording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220a"/>
                </a:solidFill>
                <a:latin typeface="Arial"/>
              </a:rPr>
              <a:t>Focus Groups</a:t>
            </a:r>
            <a:endParaRPr b="1" lang="en-US" sz="2400" spc="-1" strike="noStrike">
              <a:solidFill>
                <a:srgbClr val="7a220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57880" y="1981080"/>
            <a:ext cx="2960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IRE Action Team Model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1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Culture and Climate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2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Short Term Goals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3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Action Research - Data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                 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     Collection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4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Data Day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5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Sharing the Information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6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Creating an Action Plan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447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a220a"/>
                </a:solidFill>
                <a:latin typeface="Arial"/>
              </a:rPr>
              <a:t>Module 7 - </a:t>
            </a:r>
            <a:r>
              <a:rPr b="1" i="1" lang="en-US" sz="3200" spc="-1" strike="noStrike">
                <a:solidFill>
                  <a:srgbClr val="7a220a"/>
                </a:solidFill>
                <a:latin typeface="Arial"/>
              </a:rPr>
              <a:t>Sustainability</a:t>
            </a:r>
            <a:endParaRPr b="1" lang="en-US" sz="3200" spc="-1" strike="noStrike">
              <a:solidFill>
                <a:srgbClr val="7a220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497880" y="304920"/>
            <a:ext cx="3581640" cy="603720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sample docu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 and replace with working document icons as follows: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Insert Menu, select Object...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Create from File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File name in “File” box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“Display as Icon” is checked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icon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lide Show Menu, Select “Action Settings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Object Action” and select “Edit”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7a22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6:17Z</dcterms:created>
  <dc:creator>Tiffany Tran</dc:creator>
  <dc:description/>
  <dc:language>en-US</dc:language>
  <cp:lastModifiedBy>Administrator</cp:lastModifiedBy>
  <cp:lastPrinted>2002-05-15T17:13:37Z</cp:lastPrinted>
  <dcterms:modified xsi:type="dcterms:W3CDTF">2009-10-30T15:12:31Z</dcterms:modified>
  <cp:revision>38</cp:revision>
  <dc:subject/>
  <dc:title>School, Family, And Community Partnership Action Team Model Strengthening Family support and Involvement in Schools through Action Research</dc:title>
</cp:coreProperties>
</file>